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11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8.jpeg" ContentType="image/jpeg"/>
  <Override PartName="/ppt/media/image9.gif" ContentType="image/gif"/>
  <Override PartName="/ppt/media/image22.wmf" ContentType="image/x-wmf"/>
  <Override PartName="/ppt/media/image3.jpeg" ContentType="image/jpeg"/>
  <Override PartName="/ppt/media/image12.gif" ContentType="image/gif"/>
  <Override PartName="/ppt/media/image16.png" ContentType="image/png"/>
  <Override PartName="/ppt/media/image13.gif" ContentType="image/gif"/>
  <Override PartName="/ppt/media/image30.gif" ContentType="image/gif"/>
  <Override PartName="/ppt/media/image5.gif" ContentType="image/gif"/>
  <Override PartName="/ppt/media/image31.gif" ContentType="image/gif"/>
  <Override PartName="/ppt/media/image6.gif" ContentType="image/gif"/>
  <Override PartName="/ppt/media/image25.wmf" ContentType="image/x-wmf"/>
  <Override PartName="/ppt/media/image29.gif" ContentType="image/gif"/>
  <Override PartName="/ppt/media/image10.gif" ContentType="image/gif"/>
  <Override PartName="/ppt/media/image2.png" ContentType="image/png"/>
  <Override PartName="/ppt/media/image14.gif" ContentType="image/gif"/>
  <Override PartName="/ppt/media/image15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jpeg" ContentType="image/jpeg"/>
  <Override PartName="/ppt/media/image21.gif" ContentType="image/gif"/>
  <Override PartName="/ppt/media/image27.gif" ContentType="image/gif"/>
  <Override PartName="/ppt/media/image23.wmf" ContentType="image/x-wmf"/>
  <Override PartName="/ppt/media/image28.gif" ContentType="image/gi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519-9272-46E8-B0F5-D8C5EDB9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D3E-DF59-47B5-B324-ED9BD712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9AA-035D-4E4A-810B-161B74C8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AC8-FF26-424B-9760-19C2225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AB9-106C-472B-9E24-CE6F03E5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910C-D20D-426C-9A78-18B3B28D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8B77-FBFF-445E-BBD5-93BA72BD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42DA-6D6C-4683-A1E5-E606A6C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5047-9831-4AEE-8E3B-7BA564D1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D37-663D-45EA-AE26-F7D1D631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23A7-A2B6-4C4B-B1AE-1A5E14E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D22-C72C-4D8F-ACA3-0336603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D6D6-B5A4-49B9-8D4A-D95F10F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ED6B-ED50-4AC3-99F1-1FDDF64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A5D-FC65-4040-AD27-DBDE766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03CB-AE2A-4843-BFC1-ACA4867A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E060-978B-4806-8D48-BDB53CB9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008-576E-460F-9426-E0F5097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D75-8B19-42B2-B0FD-49ADBE3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FD7-3737-4239-ACC2-1B553A5E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BC3-E3F3-47B9-BB03-2CD60A2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B46-8DE6-4441-AD5A-C961448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2FA-A5A7-4B54-A2D9-04EFE1E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A4C-B6DB-4A59-A336-635C8E7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D99-A23B-4760-9764-AD706B6B2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66683" t="6186" r="476" b="18559"/>
          <a:stretch/>
        </p:blipFill>
        <p:spPr>
          <a:xfrm>
            <a:off x="539640" y="6453360"/>
            <a:ext cx="72252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92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9C80-B65B-49B7-ABB1-E34576D6F8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6683" t="6186" r="476" b="18559"/>
          <a:stretch/>
        </p:blipFill>
        <p:spPr>
          <a:xfrm>
            <a:off x="395280" y="6453360"/>
            <a:ext cx="722160" cy="252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 Black"/>
              </a:rPr>
              <a:t>Achievement Standard 2.6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 Black"/>
              </a:rPr>
              <a:t>Analysis &amp; Interpre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08000" y="3933720"/>
            <a:ext cx="4907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TYPE: 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CREDITS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21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hree Areas of Business Heal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1268280"/>
            <a:ext cx="7010640" cy="5073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Am I making enough Net Profit considering the efforts I am putting in and the money that I have tied up in business capital?</a:t>
            </a:r>
            <a:r>
              <a:rPr b="0" lang="en-GB" sz="2400" spc="-1" strike="noStrike">
                <a:solidFill>
                  <a:srgbClr val="000000"/>
                </a:solidFill>
                <a:latin typeface="Viner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Can I pay my bills as they fall due?</a:t>
            </a:r>
            <a:r>
              <a:rPr b="0" lang="en-GB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alligraph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Calligraphy"/>
              </a:rPr>
              <a:t>Can I weather the storm if there is an expected or unexpected downturn in profitability and/or liquidity?</a:t>
            </a:r>
            <a:r>
              <a:rPr b="0" lang="en-GB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50943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8366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000000"/>
                </a:solidFill>
                <a:latin typeface="Arial"/>
              </a:rPr>
              <a:t>Profitability Rat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412596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Gross Profit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4920" y="1197000"/>
            <a:ext cx="705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ss Profi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x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30% this means for every $1 of Sales there is 30c of gross p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how much of our sales are returned as gross profit (the higher, the better) as expenses need to be cov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mark-up percentag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04000" y="765000"/>
            <a:ext cx="906480" cy="17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Markup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692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ss Prof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5% this means that goods costing $1 will have 25c mark up added to get the selling price of $1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the amount of profit added to the cost price to get the selling pric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mark-up perce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sales m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sales mix is a change in quantity sold of both high &amp; low mark up go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rk Up% increases, Gross Profit % increases or vice vers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1382760" cy="17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Example of Markup %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Watches (50% MU) Earring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Yr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 Watches 3 Ear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Yr 2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Watches 17 Ear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2 will have a smaller profit because the business has sold less expensive items (watches) and more cheaper items (earring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iness mark-up percentage depends on competitor’s mar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143000" cy="105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xpense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765000"/>
            <a:ext cx="705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pense Group   x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Sal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% =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for every $1 of sales, 10c goes towards paying selling expens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ells us the proportion of sales revenue that is spent on paying expenses.  It indicates how well expenses are being control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ale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ing Expense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ore advertising, more sales’ person wages).  However, SE% should remain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Expense = stay same. e.g. rent, therefore AE % decreases. Because they will be less in proportion to s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better control over expenses.- Name the expense or expense group that needs better contro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Net Profit %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a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% this means for every $1 of revenue, 12c is profit.  T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us how much of sales is returned as net profit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expense % by maintaining better control over expe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GP% by increasing mark up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80000" y="765000"/>
            <a:ext cx="2028960" cy="22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eturn on Equity (ROE or RO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1268280"/>
            <a:ext cx="7057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     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sures the return on the owner’s investment in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 must be sufficient to compensate the owner for the risk taken by investing in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turn needs to be compared to alternative investment opportunities. e.g. interest rates, industry average return, return in other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net prof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421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557360"/>
            <a:ext cx="216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O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E Beg + O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Return on Total Assets (ROT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954000"/>
            <a:ext cx="7129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 Profit + Interest  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sures how productive the assets we used are in earning profit for the business.  The business wants this to be as high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ld assets = Repairs/Maintenance incr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NP de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Return on Assets decrea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Net Profit by maintaining better control over expenses especially repairs &amp;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idle (unused) or obsolete (old) non-current asset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1069920"/>
            <a:ext cx="20163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63640" y="404640"/>
            <a:ext cx="705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0" spc="-1" strike="noStrike">
                <a:solidFill>
                  <a:srgbClr val="000000"/>
                </a:solidFill>
                <a:latin typeface="Arial"/>
              </a:rPr>
              <a:t>Liquidity Rati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1623960" cy="38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Stand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619280" y="1916280"/>
          <a:ext cx="7286760" cy="392724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 with Mer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ement with Excel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a range of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 a wide range of financial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information and make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a range of information and make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a wide range of information and make justified recommendation(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ssets – Current Li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: means the firm has $35,000 surplus of Current Assets over Current Li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row long te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 more capital in form of c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idle non-current assets for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drawing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56360" y="3716280"/>
            <a:ext cx="2087640" cy="193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978600" y="0"/>
            <a:ext cx="21654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Current Ratio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(Working Capital Rati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Liabilities  =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: 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 : 1 means for every $1 of CL the firm has $2.5 of CA. This tells us our ability to repay short-term debts (debts that are due in the next accounting period – 1 yea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atio should be at least 1: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Problems of a high current ratio: High accounts receivable – Problem of bad debts, Too much inventory – may become obsolete (expired, out of fashion etc.), Too much cash -better invested in term deposit to earn inte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row long te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 more capital in form of ca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 idle non-current assets for c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drawing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1197000"/>
            <a:ext cx="266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66"/>
                </a:solidFill>
                <a:latin typeface="Arial"/>
              </a:rPr>
              <a:t>Optimal Current Ratio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 Ratio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(Quick Assets Rati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and Prepayments are subtra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A as there is no guarantee they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turned into cash in 1-3 mon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d bank overdraft is deducted a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has given the business permissio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in overdraft and does not need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1773360"/>
            <a:ext cx="51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-Inventory &amp; Prepay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- Secured Bank OD         =  x 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 Ratio Continu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112536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1.52:1 means for every $1 of liquid liabilities, the business has $1.52 of liquid as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lls us the firm’s ability to repay immediate debts (debts that are due between 1- 3 month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e: The Liquid ratio is the best indicator of liquidit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current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clearance sale to sell obsolete inventory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197000"/>
            <a:ext cx="4105080" cy="1169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66"/>
                </a:solidFill>
                <a:latin typeface="Arial"/>
              </a:rPr>
              <a:t>Optimum Liquid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66"/>
                </a:solidFill>
                <a:latin typeface="Arial"/>
              </a:rPr>
              <a:t>1:1 – 1.5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996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Financial Stability Ratio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513160" cy="265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80000" y="321300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Equity Ratio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(Gearing Rati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1125360"/>
            <a:ext cx="752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wner’s Equ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x 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0.6:1 means for every $1 of assets the owner h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0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lls us how much of the business assets has be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nc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ow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e ratio needs to be greater than 0.5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less than 0.5:1, the creditors will force the business to sell the assets to repay them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too high, this means the business is not making use of external funds (borrowing) to expand the busines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low, the owner must invest more ca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tio is high, borrow more long term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1197000"/>
            <a:ext cx="4105080" cy="86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Optimum Equity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66"/>
                </a:solidFill>
                <a:latin typeface="Arial"/>
              </a:rPr>
              <a:t>0.6:1 – 0.8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9231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Arial"/>
              </a:rPr>
              <a:t>Management Effectiveness Rat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32000" y="2363760"/>
            <a:ext cx="4176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nventory Turnov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413000"/>
            <a:ext cx="752472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st of Goods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_____times per y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243160" cy="202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72360" y="4724280"/>
            <a:ext cx="2568600" cy="17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3640" y="1484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998640"/>
            <a:ext cx="71276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12 times per year means that the business is selling on average its entire stock 12 times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ells us how long an average inventory is in the store before it is sold and how many times the business sells its entire inven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he ideal inventory turnover depends on the type of business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.g. a jeweller may have 1 or 2 stock turns a year, a greengrocer 200 stock turns a year and a baker will have to have a daily turnover period otherwise the stock is stale and worth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different business would have its own industry ave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oods with a higher mark-up% usually have a lower turn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interrelation). Lower mark-up made up for by greater sales, therefore a high stock 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a low inventory turn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better invested elsewhe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insurance premi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nd warehous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risk of deterioration/obsolesc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t of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items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77300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871640" cy="1560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260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134136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wide rang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would typically involve nearly all of explanatory notes 3 and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 recommenda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s a strategy that will improve an identified wea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 justified recommenda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lains how the recommendation will improve the identified wea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476280"/>
            <a:ext cx="6769080" cy="5205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Explanatory Notes from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ventory Turnover Continued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18920" y="119700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Improve the Inventory Turnov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purchasing procedure (why are we buying too mu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learance sale to sell off obsolete stock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0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19280" y="620640"/>
            <a:ext cx="752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What does it tell 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4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8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.001 = 3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round to the next full d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(general rounding rule does not ap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s that the business is collecting its accounts receivable on an average every 36 day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how many days our customers take on average to pay their deb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an average 35-40 days or bet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ow to Impr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off long overdue a/c as Bad deb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 credit che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 payment of accounts by offering discounts or charge interest for overdue accou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credit collection policies. i.e. send regular statement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ge of Accounts Receiv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836640"/>
            <a:ext cx="49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 Accounts Receiv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credit sales + GST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1773360"/>
            <a:ext cx="3673800" cy="95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Optimum Age of Accounts Receivable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66"/>
                </a:solidFill>
                <a:latin typeface="Arial"/>
              </a:rPr>
              <a:t>35 – 40 days or 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1672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Interpretation</a:t>
            </a:r>
            <a:br>
              <a:rPr sz="7200"/>
            </a:b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- What do all the numbers mean??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022560" cy="287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192400" cy="3311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696000" y="3284640"/>
            <a:ext cx="1843200" cy="26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59636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47280" y="836640"/>
            <a:ext cx="7596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Mark Up Percentage will increase Gross Profit Percentage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Up Percentage is linked to both sales and inventory turnover. A decrease in mark up should lead to an increase in sales, and an increase in inventory turnover as the sales volume has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Gross Profit Percentage should lead to an increase in Net Profit Percentage. If not, the firm has less control over expen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rease in Expenses Percentage (better control over expenses) should lead to an increase in Net Profit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flipH="1">
            <a:off x="0" y="-171360"/>
            <a:ext cx="1650960" cy="177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fitability Continued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739152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rease in Net Profit Percentage is not necessarily detrimental for the firm as the net profit figure in the Statement of Financial Performance has increased. A higher net profit figure means that the firm is more profitable even though it may have a lower Net Profit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net profit figure will usually lead to an increase in the return on owner’s equ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apital figure in the Statement of Financial Position has increased, and Net Profit has remained constant the return on owner’s equity would de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Liquidity/Management Effective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1197000"/>
          <a:ext cx="8078760" cy="5073480"/>
        </p:xfrm>
        <a:graphic>
          <a:graphicData uri="http://schemas.openxmlformats.org/drawingml/2006/table">
            <a:tbl>
              <a:tblPr/>
              <a:tblGrid>
                <a:gridCol w="1223640"/>
                <a:gridCol w="1295640"/>
                <a:gridCol w="2448000"/>
                <a:gridCol w="31114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quid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o much ca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of Accounts Receivable s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sted in interest bearing accou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off bad debts, and check credit collection polic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ase in Inventory turnover with the possibility of obsolete stock or oversto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rance sale of obsolete stock 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procedures when purchasing stock 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off any obsolete stoc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large secured bank overdraf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assets have been financed by non current liabilities (long term sourc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 in unsecured bank overdraf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ts financed from short term rather than long term sour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 invests cash or reduces amount of draw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36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ck assets have been financed by non current liabilities (long term sourc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838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7010640" cy="45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quity ratio is low and the liquid ratio is low, the owner should invest mo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quity ratio is high and the liquid ratio is low, the firm should borrow from long term sources eg increase mort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360" y="0"/>
            <a:ext cx="6913440" cy="64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Analyse financial informatio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ans calculate analysis measures selected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prof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rk-up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ross profit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enses perce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t profit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turn on equity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ate of return on total assets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rrent ratio/working capital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quid ratio/quick asse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financi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quity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NZ" sz="2000" spc="-1" strike="noStrike">
                <a:solidFill>
                  <a:srgbClr val="333399"/>
                </a:solidFill>
                <a:latin typeface="Arial"/>
              </a:rPr>
              <a:t>measures of management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ventory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ge of accounts recei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45120" y="2276640"/>
            <a:ext cx="30988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440"/>
            <a:ext cx="766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mulae will be provided for analysis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will be select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analysis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financial information presented as graphs, tables or financial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comparative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non-finan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nterpret information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ll include using the context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the analysis ra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possible reasons for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lain possible consequences of a continued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vide links between analysis measures and other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vide links between related analysis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validly comment on an entity’s financial performance, and/or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nancial position, and/or cash flows, using comparative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gures (including industry averages) and results of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-  compare the financial and/or non-financial information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lating to the business, or to two sole proprietor busi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ubject Specification 20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67520" cy="4857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mat of th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ies of Short 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 least one PARAGRAPH question based on a variety of resourc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mulae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Resource Book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RATIO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o be rounded to 2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ERCENTAG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o be rounded to 1D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79640" y="0"/>
          <a:ext cx="6359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0"/>
                    <a:ext cx="6359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eaching Poi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35280" y="836640"/>
          <a:ext cx="7010280" cy="5541840"/>
        </p:xfrm>
        <a:graphic>
          <a:graphicData uri="http://schemas.openxmlformats.org/drawingml/2006/table">
            <a:tbl>
              <a:tblPr/>
              <a:tblGrid>
                <a:gridCol w="2220840"/>
                <a:gridCol w="478944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Criteria 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sible meaning/requirement of the word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 analysis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ain the analysis ratios, possible reasons for trends, possible consequences of a continued tr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ide links between analysis measures and other information; between related analysis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 on the validity of an entity’s financial performance, and/or financial position, and/or cash flows, using comparative figures (including industry averages) and results of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re the financial and/or non-financial information relating to the business, or to two sole proprietor busin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Strategy that will improve an identified wea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st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mmen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 explanation of how the recommendation(s) will improve the identified wea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996240" cy="110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Three components of 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Business Heal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1916280"/>
            <a:ext cx="6408720" cy="43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205000"/>
            <a:ext cx="165708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4437000"/>
            <a:ext cx="165744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4508640"/>
            <a:ext cx="1657440" cy="158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373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24000" y="3645000"/>
            <a:ext cx="57636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573360"/>
            <a:ext cx="64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06/1/1 © NZCETA Curriculum &amp; Membership Servic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3:22:50Z</dcterms:created>
  <dc:creator>NZCETA Curriculum &amp; Membership Services</dc:creator>
  <dc:description/>
  <dc:language>en-US</dc:language>
  <cp:lastModifiedBy>dawekE</cp:lastModifiedBy>
  <dcterms:modified xsi:type="dcterms:W3CDTF">2006-10-15T03:02:00Z</dcterms:modified>
  <cp:revision>34</cp:revision>
  <dc:subject/>
  <dc:title>Achievement Standard 2.6 Analysis &amp; Interpretation</dc:title>
</cp:coreProperties>
</file>